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8EA1-54BA-4B62-A994-BF936409F4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3F1A-54FD-488A-BCFB-3DE94D9146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30DF-03D5-4D86-A52F-98874BCF48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9B96-6D9A-4506-9E61-B97408BD93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A149-3FBE-4286-827F-E9441382C5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25E3-B5B6-4B4A-86E1-E6DE3F04D4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3673440"/>
            <a:ext cx="543564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4D22-81B6-49AF-83B9-04351F4A3B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830-C580-491E-A6F5-16312DAC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AC6-A2E5-47F7-AC8F-56637919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88C-3871-4832-A66B-A9FCFB5D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7B0-863E-4880-8DA8-0AA54FC8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3CD-BFC9-4CDD-897F-8C8DA5F5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A5A-501B-4525-9FA9-5CE1F556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006-5060-4611-9DC6-BB5845F1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BCC-2269-438F-BADC-6875B254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AEB-44D8-4D20-A2FA-39D5A9FA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5B5-F620-469F-AA10-155AFEA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17C-4622-4C2B-BC40-CB993DEF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078-36C0-49D7-B93F-D3FC4938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FE0C-BD07-45AF-9CCB-27BAC481244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7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85" name="Přímá spojnice se šipkou 4"/>
          <p:cNvCxnSpPr>
            <a:stCxn id="86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92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46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 v posledním monitorovacím (sledovaném)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8"/>
          <p:cNvSpPr/>
          <p:nvPr/>
        </p:nvSpPr>
        <p:spPr>
          <a:xfrm>
            <a:off x="3419640" y="4797360"/>
            <a:ext cx="7207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Přímá spojnice se šipkou 11"/>
          <p:cNvCxnSpPr/>
          <p:nvPr/>
        </p:nvCxnSpPr>
        <p:spPr>
          <a:xfrm flipH="1" flipV="1">
            <a:off x="3419280" y="3789360"/>
            <a:ext cx="1584720" cy="1440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0" y="692280"/>
            <a:ext cx="4182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, pokud bude u VŘ pouze jeden dodavatel. Pokud bude více dodavatelů, příjemce bude vyplňovat pole na záložce Detaily k VŘ ručně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824360" cy="496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Přímá spojnice se šipkou 5"/>
          <p:cNvCxnSpPr>
            <a:stCxn id="114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Nová záložka od 2. 7.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&gt;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dvojitých šip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43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77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66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3"/>
          <a:stretch/>
        </p:blipFill>
        <p:spPr>
          <a:xfrm>
            <a:off x="6443640" y="2354400"/>
            <a:ext cx="762120" cy="333360"/>
          </a:xfrm>
          <a:prstGeom prst="rect">
            <a:avLst/>
          </a:prstGeom>
          <a:ln w="0">
            <a:noFill/>
          </a:ln>
        </p:spPr>
      </p:pic>
      <p:cxnSp>
        <p:nvCxnSpPr>
          <p:cNvPr id="169" name="Přímá spojnice se šipkou 3"/>
          <p:cNvCxnSpPr>
            <a:stCxn id="168" idx="1"/>
          </p:cNvCxnSpPr>
          <p:nvPr/>
        </p:nvCxnSpPr>
        <p:spPr>
          <a:xfrm flipH="1">
            <a:off x="2245680" y="2521080"/>
            <a:ext cx="4197960" cy="2853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Přímá spojnice se šipkou 3"/>
          <p:cNvCxnSpPr>
            <a:stCxn id="174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9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194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96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Přímá spojnice se šipkou 7"/>
          <p:cNvCxnSpPr>
            <a:endCxn id="196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12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4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7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lizac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33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34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Přímá spojnice se šipkou 5"/>
          <p:cNvCxnSpPr>
            <a:stCxn id="238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0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41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48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54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6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60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16000" y="1197000"/>
          <a:ext cx="676260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604880"/>
                <a:gridCol w="173664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9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Obdélník 1"/>
          <p:cNvSpPr/>
          <p:nvPr/>
        </p:nvSpPr>
        <p:spPr>
          <a:xfrm>
            <a:off x="250920" y="1916280"/>
            <a:ext cx="115236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ukovská Jiřina (MPSV)</cp:lastModifiedBy>
  <cp:lastPrinted>2012-04-23T10:38:10Z</cp:lastPrinted>
  <dcterms:modified xsi:type="dcterms:W3CDTF">2012-12-11T06:49:25Z</dcterms:modified>
  <cp:revision>441</cp:revision>
  <dc:subject/>
  <dc:title>Snímek 1</dc:title>
</cp:coreProperties>
</file>